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FFB8-655F-420D-9CCE-96D778C036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Système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EL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Système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, 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, 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p = m  g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 = kg  kgms-2kg-1 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ms-2  m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m2s-2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k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 = m  g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 = kg  kgms-2kg-1 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 m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2s-2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k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 = u2 +2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  = m2s-2  +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 = u2 +2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  = m2s-2  +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not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not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?     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m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?     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m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k = ½ m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v = u + at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kg  m2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 = kg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 m2s-2 = kg m2s-2     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s-2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      No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1  is missing, so equation should re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u +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k = ½ m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v = u + at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kg  m2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 = kg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 m2s-2 = kg m2s-2     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s-2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      No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1  is missing, so equation should re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u +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x = ut + ½a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 = 2π√l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v = f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 = 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W = ½C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F = mv -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x = ut + ½a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 = 2π√l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v = f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 = 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W = ½C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F = mv -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105-77E6-4717-A801-4BDB077A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16C-8663-4C51-86FC-88036471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10A-B029-4E26-A218-1C0BD49F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3675-F097-40ED-A234-90584CB0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57D0D-2B80-4B0A-B1DD-C08868B7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8B2B4-1BAD-4F52-9FD5-DA2AEE03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A1BC1-E937-4442-9110-DD1FF25D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4CC46-43A0-467E-A662-A8A762B4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538B0-DA5B-40B6-9184-C8E3D7F8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7AF3C-81EF-4D25-B844-72FD0A25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DA845-EE0D-44CF-8655-054669A4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9AF-4327-42AE-BF76-141D970C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D7CA0-E623-484D-8FDF-F6BE0A05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C6510-035A-4D3C-A9B0-225D146E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565E3-381E-4212-A044-CEF1B438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29E7E-8E79-4F68-A2FA-7237DFAB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49D93-4A0B-4C6E-9D22-737619DB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FE620-16BD-4297-8614-95A4D276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860D6-31AB-4155-A22E-28EE33D4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3014D-51E2-4A89-B0E9-276743AB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2EFBA-0CAE-4B50-A60E-8B0953EE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4C853-182A-49EF-8702-BA3411A5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7865-7BE1-4618-BE88-A9AFD8C4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BA887-79B0-4289-A832-FE1CD474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5D66F-6C6D-4068-AB07-E1F94912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112C1-7B4B-4F4C-A8CD-DACD3AE4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0452A-BC78-4731-8E1C-1A4A58B5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F02C4-D09D-4E70-9BF2-900BCFE0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71465-C548-481C-B2D1-E2CF4E20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9B2E9-742A-48B5-B9C7-3F627B22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911A-B628-4616-BC85-E7B2E6F8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4C7-89DC-4AED-8EA5-9529C6AD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20CA-1D8D-4E9B-BAB3-36EB0E36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187-DFAF-4BFD-A11A-70266A5A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1AC5-83DC-41AE-959E-93C2D7A7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31F-9FBA-4BB5-BF8D-39F436B7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2D0B-0394-44A3-BB2C-ED03A05F18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4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88D0-082A-4C9C-A99F-7154141C42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9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A16E-8422-4E13-90C7-D61BBDE83D2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fdef6"/>
                </a:solidFill>
                <a:latin typeface="Arial"/>
              </a:rPr>
              <a:t>The Syst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  <a:ea typeface="Arial"/>
              </a:rPr>
              <a:t>ème International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Bell MT"/>
              </a:rPr>
              <a:t>SI Un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6372360" y="573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GEL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250920" y="476280"/>
          <a:ext cx="8713800" cy="5616720"/>
        </p:xfrm>
        <a:graphic>
          <a:graphicData uri="http://schemas.openxmlformats.org/drawingml/2006/table">
            <a:tbl>
              <a:tblPr/>
              <a:tblGrid>
                <a:gridCol w="3557520"/>
                <a:gridCol w="1452600"/>
                <a:gridCol w="2324160"/>
                <a:gridCol w="137952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se Quantit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se </a:t>
                      </a: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Text Box 232"/>
          <p:cNvSpPr/>
          <p:nvPr/>
        </p:nvSpPr>
        <p:spPr>
          <a:xfrm>
            <a:off x="324000" y="2276640"/>
            <a:ext cx="172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33"/>
          <p:cNvSpPr/>
          <p:nvPr/>
        </p:nvSpPr>
        <p:spPr>
          <a:xfrm>
            <a:off x="324000" y="2781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34"/>
          <p:cNvSpPr/>
          <p:nvPr/>
        </p:nvSpPr>
        <p:spPr>
          <a:xfrm>
            <a:off x="324000" y="328464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35"/>
          <p:cNvSpPr/>
          <p:nvPr/>
        </p:nvSpPr>
        <p:spPr>
          <a:xfrm>
            <a:off x="324000" y="3789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36"/>
          <p:cNvSpPr/>
          <p:nvPr/>
        </p:nvSpPr>
        <p:spPr>
          <a:xfrm>
            <a:off x="324000" y="4292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38"/>
          <p:cNvSpPr/>
          <p:nvPr/>
        </p:nvSpPr>
        <p:spPr>
          <a:xfrm>
            <a:off x="250920" y="4797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39"/>
          <p:cNvSpPr/>
          <p:nvPr/>
        </p:nvSpPr>
        <p:spPr>
          <a:xfrm>
            <a:off x="324000" y="5516640"/>
            <a:ext cx="38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42"/>
          <p:cNvSpPr/>
          <p:nvPr/>
        </p:nvSpPr>
        <p:spPr>
          <a:xfrm>
            <a:off x="4500720" y="227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43"/>
          <p:cNvSpPr/>
          <p:nvPr/>
        </p:nvSpPr>
        <p:spPr>
          <a:xfrm>
            <a:off x="4427640" y="2781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Bradley Hand IT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44"/>
          <p:cNvSpPr/>
          <p:nvPr/>
        </p:nvSpPr>
        <p:spPr>
          <a:xfrm>
            <a:off x="4356000" y="3284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5"/>
          <p:cNvSpPr/>
          <p:nvPr/>
        </p:nvSpPr>
        <p:spPr>
          <a:xfrm>
            <a:off x="4067280" y="378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T ,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46"/>
          <p:cNvSpPr/>
          <p:nvPr/>
        </p:nvSpPr>
        <p:spPr>
          <a:xfrm>
            <a:off x="4140360" y="4292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Bell MT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47"/>
          <p:cNvSpPr/>
          <p:nvPr/>
        </p:nvSpPr>
        <p:spPr>
          <a:xfrm>
            <a:off x="4427640" y="479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49"/>
          <p:cNvSpPr/>
          <p:nvPr/>
        </p:nvSpPr>
        <p:spPr>
          <a:xfrm>
            <a:off x="3780000" y="5445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52"/>
          <p:cNvSpPr/>
          <p:nvPr/>
        </p:nvSpPr>
        <p:spPr>
          <a:xfrm>
            <a:off x="5364000" y="227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53"/>
          <p:cNvSpPr/>
          <p:nvPr/>
        </p:nvSpPr>
        <p:spPr>
          <a:xfrm>
            <a:off x="5364000" y="27813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55"/>
          <p:cNvSpPr/>
          <p:nvPr/>
        </p:nvSpPr>
        <p:spPr>
          <a:xfrm>
            <a:off x="5364000" y="328464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56"/>
          <p:cNvSpPr/>
          <p:nvPr/>
        </p:nvSpPr>
        <p:spPr>
          <a:xfrm>
            <a:off x="5364000" y="3789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57"/>
          <p:cNvSpPr/>
          <p:nvPr/>
        </p:nvSpPr>
        <p:spPr>
          <a:xfrm>
            <a:off x="5364000" y="429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58"/>
          <p:cNvSpPr/>
          <p:nvPr/>
        </p:nvSpPr>
        <p:spPr>
          <a:xfrm>
            <a:off x="5364000" y="4797360"/>
            <a:ext cx="11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59"/>
          <p:cNvSpPr/>
          <p:nvPr/>
        </p:nvSpPr>
        <p:spPr>
          <a:xfrm>
            <a:off x="5364000" y="544500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60"/>
          <p:cNvSpPr/>
          <p:nvPr/>
        </p:nvSpPr>
        <p:spPr>
          <a:xfrm>
            <a:off x="7885080" y="227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61"/>
          <p:cNvSpPr/>
          <p:nvPr/>
        </p:nvSpPr>
        <p:spPr>
          <a:xfrm>
            <a:off x="7885080" y="278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62"/>
          <p:cNvSpPr/>
          <p:nvPr/>
        </p:nvSpPr>
        <p:spPr>
          <a:xfrm>
            <a:off x="7885080" y="328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63"/>
          <p:cNvSpPr/>
          <p:nvPr/>
        </p:nvSpPr>
        <p:spPr>
          <a:xfrm>
            <a:off x="7885080" y="3789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64"/>
          <p:cNvSpPr/>
          <p:nvPr/>
        </p:nvSpPr>
        <p:spPr>
          <a:xfrm>
            <a:off x="7991640" y="4292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67"/>
          <p:cNvSpPr/>
          <p:nvPr/>
        </p:nvSpPr>
        <p:spPr>
          <a:xfrm>
            <a:off x="7812000" y="4869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68"/>
          <p:cNvSpPr/>
          <p:nvPr/>
        </p:nvSpPr>
        <p:spPr>
          <a:xfrm>
            <a:off x="7956720" y="5445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179280" y="260280"/>
          <a:ext cx="8642520" cy="6096240"/>
        </p:xfrm>
        <a:graphic>
          <a:graphicData uri="http://schemas.openxmlformats.org/drawingml/2006/table">
            <a:tbl>
              <a:tblPr/>
              <a:tblGrid>
                <a:gridCol w="2232000"/>
                <a:gridCol w="2784600"/>
                <a:gridCol w="1465200"/>
                <a:gridCol w="21607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ysical Quant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fined as 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ecial Na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Text Box 68"/>
          <p:cNvSpPr/>
          <p:nvPr/>
        </p:nvSpPr>
        <p:spPr>
          <a:xfrm>
            <a:off x="179280" y="220500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9"/>
          <p:cNvSpPr/>
          <p:nvPr/>
        </p:nvSpPr>
        <p:spPr>
          <a:xfrm>
            <a:off x="179280" y="2708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17"/>
          <p:cNvSpPr/>
          <p:nvPr/>
        </p:nvSpPr>
        <p:spPr>
          <a:xfrm>
            <a:off x="179280" y="3141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18"/>
          <p:cNvSpPr/>
          <p:nvPr/>
        </p:nvSpPr>
        <p:spPr>
          <a:xfrm>
            <a:off x="179280" y="3573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20"/>
          <p:cNvSpPr/>
          <p:nvPr/>
        </p:nvSpPr>
        <p:spPr>
          <a:xfrm>
            <a:off x="179280" y="407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1"/>
          <p:cNvSpPr/>
          <p:nvPr/>
        </p:nvSpPr>
        <p:spPr>
          <a:xfrm>
            <a:off x="250920" y="4508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22"/>
          <p:cNvSpPr/>
          <p:nvPr/>
        </p:nvSpPr>
        <p:spPr>
          <a:xfrm>
            <a:off x="179280" y="5013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3"/>
          <p:cNvSpPr/>
          <p:nvPr/>
        </p:nvSpPr>
        <p:spPr>
          <a:xfrm>
            <a:off x="179280" y="544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5"/>
          <p:cNvSpPr/>
          <p:nvPr/>
        </p:nvSpPr>
        <p:spPr>
          <a:xfrm>
            <a:off x="250920" y="587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= m  g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m = kg  kg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kg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4"/>
          <p:cNvSpPr/>
          <p:nvPr/>
        </p:nvSpPr>
        <p:spPr>
          <a:xfrm>
            <a:off x="1042920" y="21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5"/>
          <p:cNvSpPr/>
          <p:nvPr/>
        </p:nvSpPr>
        <p:spPr>
          <a:xfrm flipH="1">
            <a:off x="1692360" y="2060640"/>
            <a:ext cx="71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6"/>
          <p:cNvSpPr/>
          <p:nvPr/>
        </p:nvSpPr>
        <p:spPr>
          <a:xfrm>
            <a:off x="2268360" y="2133720"/>
            <a:ext cx="21600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7"/>
          <p:cNvSpPr/>
          <p:nvPr/>
        </p:nvSpPr>
        <p:spPr>
          <a:xfrm>
            <a:off x="2700360" y="206064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755640" y="263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1476360" y="2637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1"/>
          <p:cNvSpPr/>
          <p:nvPr/>
        </p:nvSpPr>
        <p:spPr>
          <a:xfrm>
            <a:off x="1979640" y="2637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k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2"/>
          <p:cNvSpPr/>
          <p:nvPr/>
        </p:nvSpPr>
        <p:spPr>
          <a:xfrm>
            <a:off x="2987640" y="2637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3" descr="91-einb2"/>
          <p:cNvPicPr/>
          <p:nvPr/>
        </p:nvPicPr>
        <p:blipFill>
          <a:blip r:embed="rId1"/>
          <a:stretch/>
        </p:blipFill>
        <p:spPr>
          <a:xfrm>
            <a:off x="6804000" y="1395360"/>
            <a:ext cx="18003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6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7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70" fill="hold"/>
                                        <p:tgtEl>
                                          <p:spTgt spid="6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6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6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= u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+2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+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"/>
          <p:cNvSpPr/>
          <p:nvPr/>
        </p:nvSpPr>
        <p:spPr>
          <a:xfrm>
            <a:off x="971640" y="206064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"/>
          <p:cNvSpPr/>
          <p:nvPr/>
        </p:nvSpPr>
        <p:spPr>
          <a:xfrm>
            <a:off x="1763640" y="206064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6"/>
          <p:cNvSpPr/>
          <p:nvPr/>
        </p:nvSpPr>
        <p:spPr>
          <a:xfrm>
            <a:off x="2484360" y="2060640"/>
            <a:ext cx="1079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7"/>
          <p:cNvSpPr/>
          <p:nvPr/>
        </p:nvSpPr>
        <p:spPr>
          <a:xfrm>
            <a:off x="2771640" y="2060640"/>
            <a:ext cx="1368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826920" y="2708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2124000" y="2708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3276720" y="2708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4067280" y="2708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6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6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F = 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m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=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equation is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omogen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4"/>
          <p:cNvSpPr/>
          <p:nvPr/>
        </p:nvSpPr>
        <p:spPr>
          <a:xfrm>
            <a:off x="97164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755640" y="27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"/>
          <p:cNvSpPr/>
          <p:nvPr/>
        </p:nvSpPr>
        <p:spPr>
          <a:xfrm flipH="1">
            <a:off x="1763280" y="2205000"/>
            <a:ext cx="7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1476360" y="2781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2195640" y="2060640"/>
            <a:ext cx="215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2124000" y="278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2050920" y="249228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2987640" y="278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77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4" dur="770" fill="hold"/>
                                        <p:tgtEl>
                                          <p:spTgt spid="6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77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770" fill="hold"/>
                                        <p:tgtEl>
                                          <p:spTgt spid="6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77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770" fill="hold"/>
                                        <p:tgtEl>
                                          <p:spTgt spid="6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8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77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770" fill="hold"/>
                                        <p:tgtEl>
                                          <p:spTgt spid="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is missing?   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m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=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F = </a:t>
            </a:r>
            <a:r>
              <a:rPr b="0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mv</a:t>
            </a:r>
            <a:r>
              <a:rPr b="0" lang="en-GB" sz="3600" spc="-1" strike="noStrike" u="sng" baseline="30000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1979640" y="2421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"/>
              </a:rPr>
              <a:t>-1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3564000" y="2421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Arial"/>
              </a:rPr>
              <a:t>k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½ m v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 = u + a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3851280" y="1844640"/>
            <a:ext cx="439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 = kg 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 m = kg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 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 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3924360" y="3987720"/>
            <a:ext cx="4680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+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Not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missing, so equation should r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V = u +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) x = ut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a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) T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/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) v = f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) I = n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) W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C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missing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) F = mv -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8:53:17Z</dcterms:created>
  <dc:creator>gelms</dc:creator>
  <dc:description/>
  <dc:language>en-US</dc:language>
  <cp:lastModifiedBy>RomaK</cp:lastModifiedBy>
  <dcterms:modified xsi:type="dcterms:W3CDTF">2015-09-04T09:20:25Z</dcterms:modified>
  <cp:revision>20</cp:revision>
  <dc:subject/>
  <dc:title>SI Units</dc:title>
</cp:coreProperties>
</file>